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18942-FF36-4549-A6C2-ABF55FCA4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623BA-D02B-4501-B4AB-E2C08D346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22C79-77CD-4328-BEFD-618F5EDA0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31237-B00A-47F9-AF0F-A87B93B9D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6552E-BD43-43D5-8232-C62C600CA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655EA-CFE1-4D41-AC63-982690BE8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E461A-BFCA-4834-B29D-38D52DB05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53BF6-164B-4E00-8E26-2DC569CF8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1B355-3DDF-40D5-89CE-87D3368EB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5648C-2712-41C5-A5AC-808C40F5E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D75EF-84DC-46F9-85AE-C5C241D46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D149C-824D-4852-B62B-DAF351415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548F-6C9D-4205-AF3F-66F136121ABA}"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00280"/>
            <a:ext cx="7772400" cy="19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Ecotourism</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Beliz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Is It?</a:t>
            </a:r>
            <a:endParaRPr b="0" lang="en-US" sz="4400" spc="-1" strike="noStrike">
              <a:solidFill>
                <a:srgbClr val="000000"/>
              </a:solidFill>
              <a:latin typeface="Calibri"/>
            </a:endParaRPr>
          </a:p>
        </p:txBody>
      </p:sp>
      <p:sp>
        <p:nvSpPr>
          <p:cNvPr id="44"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Ecotourism</a:t>
            </a:r>
            <a:r>
              <a:rPr b="0" lang="en-US" sz="2700" spc="-1" strike="noStrike">
                <a:solidFill>
                  <a:srgbClr val="000000"/>
                </a:solidFill>
                <a:latin typeface="Calibri"/>
              </a:rPr>
              <a:t> or Green Tourism is aimed at allowing people to visit naturally beautiful environments whilst protecting them for the future at the same tim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developing world governments have realised that unless they protect their fragile environments they are not going to have anything left for the tourists to come and see.</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cotourism also aims to benefit the local people directly.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ne country to try this new form of tourism is Belize, on the Caribbean coast of Central America.</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ustainability</a:t>
            </a:r>
            <a:endParaRPr b="0" lang="en-US" sz="4400" spc="-1" strike="noStrike">
              <a:solidFill>
                <a:srgbClr val="000000"/>
              </a:solidFill>
              <a:latin typeface="Calibri"/>
            </a:endParaRPr>
          </a:p>
        </p:txBody>
      </p:sp>
      <p:sp>
        <p:nvSpPr>
          <p:cNvPr id="46" name=""/>
          <p:cNvSpPr txBox="1"/>
          <p:nvPr/>
        </p:nvSpPr>
        <p:spPr>
          <a:xfrm>
            <a:off x="457200" y="1599840"/>
            <a:ext cx="8229600" cy="5257800"/>
          </a:xfrm>
          <a:prstGeom prst="rect">
            <a:avLst/>
          </a:prstGeom>
          <a:noFill/>
          <a:ln w="0">
            <a:noFill/>
          </a:ln>
        </p:spPr>
        <p:txBody>
          <a:bodyPr anchor="t">
            <a:normAutofit fontScale="97000"/>
          </a:bodyPr>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lize is a very good example of where ecotourism is being tried. </a:t>
            </a:r>
            <a:endParaRPr b="0" lang="en-US" sz="2600" spc="-1" strike="noStrike">
              <a:solidFill>
                <a:srgbClr val="000000"/>
              </a:solidFill>
              <a:latin typeface="Calibri"/>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ain aim is to achieve </a:t>
            </a:r>
            <a:r>
              <a:rPr b="1" lang="en-US" sz="2600" spc="-1" strike="noStrike">
                <a:solidFill>
                  <a:srgbClr val="000000"/>
                </a:solidFill>
                <a:latin typeface="Calibri"/>
              </a:rPr>
              <a:t>sustainability</a:t>
            </a:r>
            <a:r>
              <a:rPr b="0" lang="en-US" sz="2600" spc="-1" strike="noStrike">
                <a:solidFill>
                  <a:srgbClr val="000000"/>
                </a:solidFill>
                <a:latin typeface="Calibri"/>
              </a:rPr>
              <a:t>, which means that the environment is not in any way damaged by the tourists. </a:t>
            </a:r>
            <a:endParaRPr b="0" lang="en-US" sz="2600" spc="-1" strike="noStrike">
              <a:solidFill>
                <a:srgbClr val="000000"/>
              </a:solidFill>
              <a:latin typeface="Calibri"/>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lize has an abundance of natural and cultural phenomena that attract tourists, including forests, wetlands, coral reefs, savannahs and ancient Mayan ruins.</a:t>
            </a:r>
            <a:endParaRPr b="0" lang="en-US" sz="2600" spc="-1" strike="noStrike">
              <a:solidFill>
                <a:srgbClr val="000000"/>
              </a:solidFill>
              <a:latin typeface="Calibri"/>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increasing number of tourists are coming to the country as they learn about all the things to see, and as the government realises the financial benefits of touris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Initiatives</a:t>
            </a:r>
            <a:endParaRPr b="0" lang="en-US" sz="4400" spc="-1" strike="noStrike">
              <a:solidFill>
                <a:srgbClr val="000000"/>
              </a:solidFill>
              <a:latin typeface="Calibri"/>
            </a:endParaRPr>
          </a:p>
        </p:txBody>
      </p:sp>
      <p:sp>
        <p:nvSpPr>
          <p:cNvPr id="4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the government has also realised the importance of protecting the environments and has tried a number of initiativ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created many National Parks and reserves, banning farming in many of th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93 the Belize Ecotourism Association was established, it is concerned with protecting the natural environment and works closely with the Ministry of Tourism and the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ims To Ensure Sustainability</a:t>
            </a:r>
            <a:endParaRPr b="0" lang="en-US" sz="44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strict planning and control of tourist developments, including where they will be located, what they will look like, what transport routes are needed and any other regional planning that might be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an increasing involvement in all stages of the tourism development by the local peop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im is that they will assume almost complete control of the develop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ims To Ensure Sustainability</a:t>
            </a:r>
            <a:endParaRPr b="0" lang="en-US" sz="4400" spc="-1" strike="noStrike">
              <a:solidFill>
                <a:srgbClr val="000000"/>
              </a:solidFill>
              <a:latin typeface="Calibri"/>
            </a:endParaRPr>
          </a:p>
        </p:txBody>
      </p:sp>
      <p:sp>
        <p:nvSpPr>
          <p:cNvPr id="52"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ourism that is introduced is aimed at being appropriate and not exploitativ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ther words it is something that suits the local area and helps to enhance that ar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vernment aims to strike a balance between development and tourism that would be mutually beneficial to all involved, and the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 Success?</a:t>
            </a:r>
            <a:endParaRPr b="0" lang="en-US" sz="4400" spc="-1" strike="noStrike">
              <a:solidFill>
                <a:srgbClr val="000000"/>
              </a:solidFill>
              <a:latin typeface="Calibri"/>
            </a:endParaRPr>
          </a:p>
        </p:txBody>
      </p:sp>
      <p:sp>
        <p:nvSpPr>
          <p:cNvPr id="5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generally attracted to </a:t>
            </a:r>
            <a:r>
              <a:rPr b="1" lang="en-US" sz="3200" spc="-1" strike="noStrike">
                <a:solidFill>
                  <a:srgbClr val="000000"/>
                </a:solidFill>
                <a:latin typeface="Calibri"/>
              </a:rPr>
              <a:t>ecotourism</a:t>
            </a:r>
            <a:r>
              <a:rPr b="0" lang="en-US" sz="3200" spc="-1" strike="noStrike">
                <a:solidFill>
                  <a:srgbClr val="000000"/>
                </a:solidFill>
                <a:latin typeface="Calibri"/>
              </a:rPr>
              <a:t> by its remoteness, the small numbers of people and less sophisticated facilit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se features disappear then the appeal of ecotourism is lost to many people, as the area just becomes another mass resor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is happens then the fundamental objectives behind ecotourism also will have been forgott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 Succes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that is being attempted in Belize is building towards the goal of continuing to benefit from tourism, whilst protecting and nurturing the natural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01:06:46Z</dcterms:created>
  <dc:creator>Dell_02</dc:creator>
  <dc:description/>
  <dc:language>en-US</dc:language>
  <cp:lastModifiedBy>Dell_02</cp:lastModifiedBy>
  <dcterms:modified xsi:type="dcterms:W3CDTF">2011-01-27T01:12:25Z</dcterms:modified>
  <cp:revision>1</cp:revision>
  <dc:subject/>
  <dc:title>Ecotourism</dc:title>
</cp:coreProperties>
</file>